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279-A793-4395-8406-8856BFFF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BAC-4403-4F5F-B5C6-E83660B6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B55-E405-457C-A8FD-221E5B3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09F-5E6D-4AEB-A7B7-106A128D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15A4-9A5A-43B4-A271-78B04127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0B46-CF17-481B-ABBE-5138220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35D9-4636-4A1E-AAC4-E53E0141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35E5-F0B4-4785-8074-814504E0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1A67-FA9A-4F5B-9C42-6813DCCD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A362-0570-457F-8C82-2752477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4C14-82A7-44B7-AF6B-82B1CF62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7CC-2DDE-4B3B-BD15-6309D28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57D-3292-4FCB-A37B-1583FD3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D083-AAA6-4EA0-AB4F-A105272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7C7-80CF-465B-AEB7-6C6BD6D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5BF-4EAA-4BDA-8739-76313BFE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9F5B-68DC-4817-B70D-A5B81ED4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E83-A1C2-4B8A-9774-6EB0D8F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5CF-5D57-442D-8244-D20BB7BC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128-535E-4A67-BEC5-C1D46BF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D93-2C97-4B5B-8271-B30F028E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200-7E78-4B45-B8B2-80443EF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A69-FA5D-4F7F-844F-73A59A7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269-DF7F-4987-B823-DA2F7390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EBF-B4B8-486A-94F7-5C4BBF79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FC8B-B5A4-44D5-9509-4F6C9BB4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ushistory.org/declaration/document/index.ht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0" y="0"/>
            <a:ext cx="4419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 9-14 &amp; 15-11 *Prog.Rep. F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hildren Amazon due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0" y="762120"/>
            <a:ext cx="4419720" cy="370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9-14 &amp; 15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map.jpg"/>
          <p:cNvPicPr/>
          <p:nvPr/>
        </p:nvPicPr>
        <p:blipFill>
          <a:blip r:embed="rId1"/>
          <a:srcRect l="40835" t="0" r="0" b="17780"/>
          <a:stretch/>
        </p:blipFill>
        <p:spPr>
          <a:xfrm>
            <a:off x="3733920" y="0"/>
            <a:ext cx="541008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380880" y="1143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angt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380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380880" y="19051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8088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lack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380880" y="2819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diterranean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www.cemsonline.com/country/india/india_ganges-river-bathing.jpg"/>
          <p:cNvPicPr/>
          <p:nvPr/>
        </p:nvPicPr>
        <p:blipFill>
          <a:blip r:embed="rId2"/>
          <a:stretch/>
        </p:blipFill>
        <p:spPr>
          <a:xfrm>
            <a:off x="0" y="3714840"/>
            <a:ext cx="4476600" cy="3143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0"/>
          <p:cNvSpPr/>
          <p:nvPr/>
        </p:nvSpPr>
        <p:spPr>
          <a:xfrm>
            <a:off x="3733920" y="0"/>
            <a:ext cx="54100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rn in Wow W.S.  If you haven’t al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World map.color.bm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4771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6095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791320" y="2819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51460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22860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3341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59092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sosceles Triangle 18"/>
          <p:cNvSpPr/>
          <p:nvPr/>
        </p:nvSpPr>
        <p:spPr>
          <a:xfrm>
            <a:off x="5105520" y="3886200"/>
            <a:ext cx="222120" cy="15228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50292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993280" y="1600200"/>
            <a:ext cx="8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6375240" y="2881440"/>
            <a:ext cx="828720" cy="233280"/>
          </a:xfrm>
          <a:custGeom>
            <a:avLst/>
            <a:gdLst/>
            <a:ahLst/>
            <a:rect l="l" t="t" r="r" b="b"/>
            <a:pathLst>
              <a:path w="827903" h="233261">
                <a:moveTo>
                  <a:pt x="0" y="60266"/>
                </a:moveTo>
                <a:cubicBezTo>
                  <a:pt x="12357" y="56147"/>
                  <a:pt x="25421" y="53734"/>
                  <a:pt x="37071" y="47909"/>
                </a:cubicBezTo>
                <a:cubicBezTo>
                  <a:pt x="132890" y="0"/>
                  <a:pt x="18031" y="41900"/>
                  <a:pt x="111211" y="10839"/>
                </a:cubicBezTo>
                <a:cubicBezTo>
                  <a:pt x="135925" y="19077"/>
                  <a:pt x="170902" y="13878"/>
                  <a:pt x="185352" y="35553"/>
                </a:cubicBezTo>
                <a:cubicBezTo>
                  <a:pt x="193590" y="47910"/>
                  <a:pt x="198468" y="63346"/>
                  <a:pt x="210065" y="72623"/>
                </a:cubicBezTo>
                <a:cubicBezTo>
                  <a:pt x="220236" y="80760"/>
                  <a:pt x="234612" y="81402"/>
                  <a:pt x="247136" y="84980"/>
                </a:cubicBezTo>
                <a:cubicBezTo>
                  <a:pt x="355739" y="116008"/>
                  <a:pt x="244758" y="80067"/>
                  <a:pt x="333633" y="109693"/>
                </a:cubicBezTo>
                <a:cubicBezTo>
                  <a:pt x="341871" y="134407"/>
                  <a:pt x="336671" y="169384"/>
                  <a:pt x="358346" y="183834"/>
                </a:cubicBezTo>
                <a:lnTo>
                  <a:pt x="432487" y="233261"/>
                </a:lnTo>
                <a:cubicBezTo>
                  <a:pt x="453082" y="229142"/>
                  <a:pt x="474009" y="226430"/>
                  <a:pt x="494271" y="220904"/>
                </a:cubicBezTo>
                <a:cubicBezTo>
                  <a:pt x="519403" y="214050"/>
                  <a:pt x="568411" y="196190"/>
                  <a:pt x="568411" y="196190"/>
                </a:cubicBezTo>
                <a:cubicBezTo>
                  <a:pt x="580768" y="183833"/>
                  <a:pt x="590942" y="168813"/>
                  <a:pt x="605482" y="159120"/>
                </a:cubicBezTo>
                <a:cubicBezTo>
                  <a:pt x="616320" y="151895"/>
                  <a:pt x="632381" y="154900"/>
                  <a:pt x="642552" y="146763"/>
                </a:cubicBezTo>
                <a:cubicBezTo>
                  <a:pt x="654148" y="137486"/>
                  <a:pt x="652703" y="112605"/>
                  <a:pt x="667265" y="109693"/>
                </a:cubicBezTo>
                <a:cubicBezTo>
                  <a:pt x="719771" y="99192"/>
                  <a:pt x="774357" y="109693"/>
                  <a:pt x="827903" y="109693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4888080" y="2484360"/>
            <a:ext cx="360360" cy="195480"/>
          </a:xfrm>
          <a:custGeom>
            <a:avLst/>
            <a:gdLst/>
            <a:ahLst/>
            <a:rect l="l" t="t" r="r" b="b"/>
            <a:pathLst>
              <a:path w="360860" h="196729">
                <a:moveTo>
                  <a:pt x="339457" y="160638"/>
                </a:moveTo>
                <a:cubicBezTo>
                  <a:pt x="355933" y="144162"/>
                  <a:pt x="310608" y="112113"/>
                  <a:pt x="277673" y="86497"/>
                </a:cubicBezTo>
                <a:cubicBezTo>
                  <a:pt x="254228" y="68262"/>
                  <a:pt x="203533" y="37070"/>
                  <a:pt x="203533" y="37070"/>
                </a:cubicBezTo>
                <a:cubicBezTo>
                  <a:pt x="191176" y="41189"/>
                  <a:pt x="178557" y="54264"/>
                  <a:pt x="166463" y="49427"/>
                </a:cubicBezTo>
                <a:cubicBezTo>
                  <a:pt x="152674" y="43912"/>
                  <a:pt x="153346" y="21634"/>
                  <a:pt x="141749" y="12357"/>
                </a:cubicBezTo>
                <a:cubicBezTo>
                  <a:pt x="131578" y="4220"/>
                  <a:pt x="117036" y="4119"/>
                  <a:pt x="104679" y="0"/>
                </a:cubicBezTo>
                <a:cubicBezTo>
                  <a:pt x="92322" y="8238"/>
                  <a:pt x="76885" y="13117"/>
                  <a:pt x="67608" y="24714"/>
                </a:cubicBezTo>
                <a:cubicBezTo>
                  <a:pt x="59471" y="34885"/>
                  <a:pt x="62477" y="50947"/>
                  <a:pt x="55252" y="61784"/>
                </a:cubicBezTo>
                <a:cubicBezTo>
                  <a:pt x="45558" y="76324"/>
                  <a:pt x="30538" y="86497"/>
                  <a:pt x="18181" y="98854"/>
                </a:cubicBezTo>
                <a:cubicBezTo>
                  <a:pt x="14062" y="111211"/>
                  <a:pt x="0" y="124274"/>
                  <a:pt x="5825" y="135924"/>
                </a:cubicBezTo>
                <a:cubicBezTo>
                  <a:pt x="11650" y="147574"/>
                  <a:pt x="30080" y="145951"/>
                  <a:pt x="42895" y="148281"/>
                </a:cubicBezTo>
                <a:cubicBezTo>
                  <a:pt x="75567" y="154222"/>
                  <a:pt x="108798" y="156519"/>
                  <a:pt x="141749" y="160638"/>
                </a:cubicBezTo>
                <a:cubicBezTo>
                  <a:pt x="154106" y="168876"/>
                  <a:pt x="163997" y="184425"/>
                  <a:pt x="178819" y="185351"/>
                </a:cubicBezTo>
                <a:cubicBezTo>
                  <a:pt x="360860" y="196729"/>
                  <a:pt x="322981" y="177114"/>
                  <a:pt x="339457" y="160638"/>
                </a:cubicBez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4834800" y="2236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4389480" y="2666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6603840" y="266688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6140520" y="3002040"/>
            <a:ext cx="203040" cy="309600"/>
          </a:xfrm>
          <a:custGeom>
            <a:avLst/>
            <a:gdLst/>
            <a:ahLst/>
            <a:rect l="l" t="t" r="r" b="b"/>
            <a:pathLst>
              <a:path w="202746" h="308919">
                <a:moveTo>
                  <a:pt x="38200" y="0"/>
                </a:moveTo>
                <a:lnTo>
                  <a:pt x="13487" y="74140"/>
                </a:lnTo>
                <a:lnTo>
                  <a:pt x="1130" y="111211"/>
                </a:lnTo>
                <a:cubicBezTo>
                  <a:pt x="5249" y="144162"/>
                  <a:pt x="0" y="179719"/>
                  <a:pt x="13487" y="210065"/>
                </a:cubicBezTo>
                <a:cubicBezTo>
                  <a:pt x="18777" y="221967"/>
                  <a:pt x="37663" y="220580"/>
                  <a:pt x="50557" y="222422"/>
                </a:cubicBezTo>
                <a:cubicBezTo>
                  <a:pt x="95595" y="228856"/>
                  <a:pt x="141173" y="230659"/>
                  <a:pt x="186481" y="234778"/>
                </a:cubicBezTo>
                <a:cubicBezTo>
                  <a:pt x="202746" y="283572"/>
                  <a:pt x="198838" y="258824"/>
                  <a:pt x="198838" y="308919"/>
                </a:cubicBezTo>
              </a:path>
            </a:pathLst>
          </a:custGeom>
          <a:noFill/>
          <a:ln w="1908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5918040" y="320040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1036800" y="16002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2027520" y="2666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sosceles Triangle 36"/>
          <p:cNvSpPr/>
          <p:nvPr/>
        </p:nvSpPr>
        <p:spPr>
          <a:xfrm>
            <a:off x="2438280" y="4495680"/>
            <a:ext cx="222480" cy="15264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1219320" y="266688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8"/>
          <p:cNvSpPr/>
          <p:nvPr/>
        </p:nvSpPr>
        <p:spPr>
          <a:xfrm>
            <a:off x="1606680" y="2446200"/>
            <a:ext cx="307800" cy="581040"/>
          </a:xfrm>
          <a:custGeom>
            <a:avLst/>
            <a:gdLst/>
            <a:ahLst/>
            <a:rect l="l" t="t" r="r" b="b"/>
            <a:pathLst>
              <a:path w="308919" h="580767">
                <a:moveTo>
                  <a:pt x="0" y="0"/>
                </a:moveTo>
                <a:cubicBezTo>
                  <a:pt x="25301" y="8434"/>
                  <a:pt x="55716" y="14959"/>
                  <a:pt x="74141" y="37070"/>
                </a:cubicBezTo>
                <a:cubicBezTo>
                  <a:pt x="85933" y="51221"/>
                  <a:pt x="92013" y="69394"/>
                  <a:pt x="98854" y="86497"/>
                </a:cubicBezTo>
                <a:cubicBezTo>
                  <a:pt x="128217" y="159905"/>
                  <a:pt x="117720" y="146346"/>
                  <a:pt x="135925" y="210065"/>
                </a:cubicBezTo>
                <a:cubicBezTo>
                  <a:pt x="139503" y="222589"/>
                  <a:pt x="141956" y="235749"/>
                  <a:pt x="148281" y="247135"/>
                </a:cubicBezTo>
                <a:cubicBezTo>
                  <a:pt x="219098" y="374607"/>
                  <a:pt x="182103" y="274464"/>
                  <a:pt x="210065" y="358346"/>
                </a:cubicBezTo>
                <a:cubicBezTo>
                  <a:pt x="197708" y="366584"/>
                  <a:pt x="182272" y="371462"/>
                  <a:pt x="172995" y="383059"/>
                </a:cubicBezTo>
                <a:cubicBezTo>
                  <a:pt x="164858" y="393230"/>
                  <a:pt x="148735" y="414840"/>
                  <a:pt x="160638" y="420130"/>
                </a:cubicBezTo>
                <a:cubicBezTo>
                  <a:pt x="198465" y="436942"/>
                  <a:pt x="243017" y="428367"/>
                  <a:pt x="284206" y="432486"/>
                </a:cubicBezTo>
                <a:cubicBezTo>
                  <a:pt x="297479" y="565218"/>
                  <a:pt x="278051" y="519029"/>
                  <a:pt x="308919" y="580767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20548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0"/>
          <p:cNvSpPr/>
          <p:nvPr/>
        </p:nvSpPr>
        <p:spPr>
          <a:xfrm>
            <a:off x="0" y="5580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>
            <a:off x="2305080" y="56246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2"/>
          <p:cNvSpPr/>
          <p:nvPr/>
        </p:nvSpPr>
        <p:spPr>
          <a:xfrm>
            <a:off x="4552920" y="5607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6946920" y="5595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5"/>
          <p:cNvSpPr/>
          <p:nvPr/>
        </p:nvSpPr>
        <p:spPr>
          <a:xfrm>
            <a:off x="728640" y="1400040"/>
            <a:ext cx="855720" cy="1368720"/>
          </a:xfrm>
          <a:custGeom>
            <a:avLst/>
            <a:gdLst/>
            <a:ahLst/>
            <a:rect l="l" t="t" r="r" b="b"/>
            <a:pathLst>
              <a:path w="854757" h="1367065">
                <a:moveTo>
                  <a:pt x="0" y="94319"/>
                </a:moveTo>
                <a:cubicBezTo>
                  <a:pt x="12357" y="81962"/>
                  <a:pt x="22530" y="66942"/>
                  <a:pt x="37070" y="57248"/>
                </a:cubicBezTo>
                <a:cubicBezTo>
                  <a:pt x="122941" y="0"/>
                  <a:pt x="81993" y="146982"/>
                  <a:pt x="86497" y="205529"/>
                </a:cubicBezTo>
                <a:cubicBezTo>
                  <a:pt x="110000" y="200829"/>
                  <a:pt x="160018" y="193483"/>
                  <a:pt x="185351" y="180816"/>
                </a:cubicBezTo>
                <a:cubicBezTo>
                  <a:pt x="198634" y="174174"/>
                  <a:pt x="210064" y="164340"/>
                  <a:pt x="222421" y="156102"/>
                </a:cubicBezTo>
                <a:cubicBezTo>
                  <a:pt x="214183" y="180816"/>
                  <a:pt x="204026" y="204970"/>
                  <a:pt x="197708" y="230243"/>
                </a:cubicBezTo>
                <a:cubicBezTo>
                  <a:pt x="193589" y="246719"/>
                  <a:pt x="192041" y="264060"/>
                  <a:pt x="185351" y="279670"/>
                </a:cubicBezTo>
                <a:cubicBezTo>
                  <a:pt x="179501" y="293320"/>
                  <a:pt x="148280" y="308502"/>
                  <a:pt x="160637" y="316740"/>
                </a:cubicBezTo>
                <a:cubicBezTo>
                  <a:pt x="178112" y="328390"/>
                  <a:pt x="201826" y="308502"/>
                  <a:pt x="222421" y="304383"/>
                </a:cubicBezTo>
                <a:cubicBezTo>
                  <a:pt x="234778" y="292026"/>
                  <a:pt x="242017" y="267313"/>
                  <a:pt x="259492" y="267313"/>
                </a:cubicBezTo>
                <a:cubicBezTo>
                  <a:pt x="272517" y="267313"/>
                  <a:pt x="268421" y="291817"/>
                  <a:pt x="271848" y="304383"/>
                </a:cubicBezTo>
                <a:cubicBezTo>
                  <a:pt x="280785" y="337152"/>
                  <a:pt x="288324" y="370286"/>
                  <a:pt x="296562" y="403237"/>
                </a:cubicBezTo>
                <a:lnTo>
                  <a:pt x="308919" y="452665"/>
                </a:lnTo>
                <a:cubicBezTo>
                  <a:pt x="321276" y="448546"/>
                  <a:pt x="340599" y="428450"/>
                  <a:pt x="345989" y="440308"/>
                </a:cubicBezTo>
                <a:cubicBezTo>
                  <a:pt x="366724" y="485925"/>
                  <a:pt x="370702" y="588589"/>
                  <a:pt x="370702" y="588589"/>
                </a:cubicBezTo>
                <a:cubicBezTo>
                  <a:pt x="391297" y="584470"/>
                  <a:pt x="412821" y="583606"/>
                  <a:pt x="432486" y="576232"/>
                </a:cubicBezTo>
                <a:cubicBezTo>
                  <a:pt x="446391" y="571018"/>
                  <a:pt x="454994" y="548606"/>
                  <a:pt x="469556" y="551519"/>
                </a:cubicBezTo>
                <a:cubicBezTo>
                  <a:pt x="484119" y="554432"/>
                  <a:pt x="486032" y="576232"/>
                  <a:pt x="494270" y="588589"/>
                </a:cubicBezTo>
                <a:cubicBezTo>
                  <a:pt x="498389" y="646254"/>
                  <a:pt x="479219" y="710682"/>
                  <a:pt x="506627" y="761583"/>
                </a:cubicBezTo>
                <a:cubicBezTo>
                  <a:pt x="518505" y="783643"/>
                  <a:pt x="566205" y="728839"/>
                  <a:pt x="580767" y="749227"/>
                </a:cubicBezTo>
                <a:cubicBezTo>
                  <a:pt x="588282" y="759748"/>
                  <a:pt x="570483" y="856293"/>
                  <a:pt x="556054" y="885151"/>
                </a:cubicBezTo>
                <a:cubicBezTo>
                  <a:pt x="549412" y="898434"/>
                  <a:pt x="539578" y="909864"/>
                  <a:pt x="531340" y="922221"/>
                </a:cubicBezTo>
                <a:cubicBezTo>
                  <a:pt x="535459" y="934578"/>
                  <a:pt x="531018" y="956309"/>
                  <a:pt x="543697" y="959292"/>
                </a:cubicBezTo>
                <a:cubicBezTo>
                  <a:pt x="672342" y="989561"/>
                  <a:pt x="779542" y="903254"/>
                  <a:pt x="729048" y="1021075"/>
                </a:cubicBezTo>
                <a:cubicBezTo>
                  <a:pt x="723198" y="1034725"/>
                  <a:pt x="712573" y="1045789"/>
                  <a:pt x="704335" y="1058146"/>
                </a:cubicBezTo>
                <a:cubicBezTo>
                  <a:pt x="700216" y="1074622"/>
                  <a:pt x="696858" y="1091306"/>
                  <a:pt x="691978" y="1107573"/>
                </a:cubicBezTo>
                <a:cubicBezTo>
                  <a:pt x="684493" y="1132524"/>
                  <a:pt x="641721" y="1186822"/>
                  <a:pt x="667265" y="1181713"/>
                </a:cubicBezTo>
                <a:cubicBezTo>
                  <a:pt x="687859" y="1177594"/>
                  <a:pt x="708673" y="1174450"/>
                  <a:pt x="729048" y="1169356"/>
                </a:cubicBezTo>
                <a:cubicBezTo>
                  <a:pt x="754889" y="1162896"/>
                  <a:pt x="808983" y="1139854"/>
                  <a:pt x="827902" y="1132286"/>
                </a:cubicBezTo>
                <a:cubicBezTo>
                  <a:pt x="836140" y="1144643"/>
                  <a:pt x="850174" y="1154707"/>
                  <a:pt x="852616" y="1169356"/>
                </a:cubicBezTo>
                <a:cubicBezTo>
                  <a:pt x="854757" y="1182204"/>
                  <a:pt x="843837" y="1193903"/>
                  <a:pt x="840259" y="1206427"/>
                </a:cubicBezTo>
                <a:cubicBezTo>
                  <a:pt x="835593" y="1222756"/>
                  <a:pt x="832782" y="1239587"/>
                  <a:pt x="827902" y="1255854"/>
                </a:cubicBezTo>
                <a:cubicBezTo>
                  <a:pt x="820417" y="1280805"/>
                  <a:pt x="811427" y="1305281"/>
                  <a:pt x="803189" y="1329994"/>
                </a:cubicBezTo>
                <a:lnTo>
                  <a:pt x="790832" y="1367065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004840" y="2633760"/>
            <a:ext cx="366840" cy="307800"/>
          </a:xfrm>
          <a:custGeom>
            <a:avLst/>
            <a:gdLst/>
            <a:ahLst/>
            <a:rect l="l" t="t" r="r" b="b"/>
            <a:pathLst>
              <a:path w="367145" h="307985">
                <a:moveTo>
                  <a:pt x="8799" y="307985"/>
                </a:moveTo>
                <a:cubicBezTo>
                  <a:pt x="12918" y="254439"/>
                  <a:pt x="0" y="196709"/>
                  <a:pt x="21156" y="147347"/>
                </a:cubicBezTo>
                <a:cubicBezTo>
                  <a:pt x="31418" y="123403"/>
                  <a:pt x="37632" y="196774"/>
                  <a:pt x="45870" y="221488"/>
                </a:cubicBezTo>
                <a:lnTo>
                  <a:pt x="58226" y="258558"/>
                </a:lnTo>
                <a:cubicBezTo>
                  <a:pt x="66464" y="246201"/>
                  <a:pt x="76908" y="235059"/>
                  <a:pt x="82940" y="221488"/>
                </a:cubicBezTo>
                <a:cubicBezTo>
                  <a:pt x="93520" y="197683"/>
                  <a:pt x="107653" y="147347"/>
                  <a:pt x="107653" y="147347"/>
                </a:cubicBezTo>
                <a:cubicBezTo>
                  <a:pt x="115891" y="159704"/>
                  <a:pt x="117959" y="188020"/>
                  <a:pt x="132367" y="184418"/>
                </a:cubicBezTo>
                <a:cubicBezTo>
                  <a:pt x="149597" y="180111"/>
                  <a:pt x="166513" y="97257"/>
                  <a:pt x="169437" y="85563"/>
                </a:cubicBezTo>
                <a:cubicBezTo>
                  <a:pt x="189442" y="92232"/>
                  <a:pt x="253379" y="115247"/>
                  <a:pt x="268291" y="110277"/>
                </a:cubicBezTo>
                <a:cubicBezTo>
                  <a:pt x="280648" y="106158"/>
                  <a:pt x="276529" y="85564"/>
                  <a:pt x="280648" y="73207"/>
                </a:cubicBezTo>
                <a:cubicBezTo>
                  <a:pt x="276529" y="60850"/>
                  <a:pt x="263453" y="48230"/>
                  <a:pt x="268291" y="36136"/>
                </a:cubicBezTo>
                <a:cubicBezTo>
                  <a:pt x="282746" y="0"/>
                  <a:pt x="345636" y="11423"/>
                  <a:pt x="367145" y="11423"/>
                </a:cubicBez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 July 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ess adopted the Declaration of Independence on the morning of a bright, sunny, but cool Philadelphia day. John Dunlap printed the Declaration of Independence.  Twenty-four copies are known to exist, two of which are in the Library of Congres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of these was Washington's personal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c9"/>
                </a:solidFill>
                <a:latin typeface="Adorable"/>
              </a:rPr>
              <a:t>We hold these truths to be self-evident, that all men are created equal, that they are endowed by their Creator with certain unalienable Rights, that among these are Life, Liberty and the pursuit of Happiness.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657600"/>
            <a:ext cx="4515120" cy="120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6781680" y="0"/>
            <a:ext cx="22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arrow1rightred.gif"/>
          <p:cNvPicPr/>
          <p:nvPr/>
        </p:nvPicPr>
        <p:blipFill>
          <a:blip r:embed="rId5"/>
          <a:stretch/>
        </p:blipFill>
        <p:spPr>
          <a:xfrm>
            <a:off x="6400800" y="914400"/>
            <a:ext cx="571680" cy="190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5257800" y="152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Jefferson stayed in while writing the Declaration of 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fireworks.gif"/>
          <p:cNvPicPr/>
          <p:nvPr/>
        </p:nvPicPr>
        <p:blipFill>
          <a:blip r:embed="rId6"/>
          <a:stretch/>
        </p:blipFill>
        <p:spPr>
          <a:xfrm>
            <a:off x="5181480" y="3276720"/>
            <a:ext cx="3657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8"/>
          <p:cNvSpPr/>
          <p:nvPr/>
        </p:nvSpPr>
        <p:spPr>
          <a:xfrm>
            <a:off x="5105520" y="0"/>
            <a:ext cx="4343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105520" y="1171440"/>
            <a:ext cx="37335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or the common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Promote the gener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272200" y="3124080"/>
            <a:ext cx="4038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gov. will help bring health, happiness, and prosperity to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5" descr="constitution_signing"/>
          <p:cNvPicPr/>
          <p:nvPr/>
        </p:nvPicPr>
        <p:blipFill>
          <a:blip r:embed="rId2"/>
          <a:srcRect l="31190" t="10631" r="0" b="10631"/>
          <a:stretch/>
        </p:blipFill>
        <p:spPr>
          <a:xfrm>
            <a:off x="0" y="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http://www.mrdonn.org/geo_map_usa_blank.gif"/>
          <p:cNvPicPr/>
          <p:nvPr/>
        </p:nvPicPr>
        <p:blipFill>
          <a:blip r:embed="rId3"/>
          <a:stretch/>
        </p:blipFill>
        <p:spPr>
          <a:xfrm>
            <a:off x="380880" y="3809880"/>
            <a:ext cx="4267440" cy="2724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5"/>
          <p:cNvSpPr/>
          <p:nvPr/>
        </p:nvSpPr>
        <p:spPr>
          <a:xfrm>
            <a:off x="5181480" y="403848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nd secure the blessings of liberty to ourselves and our post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5334120" y="4952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ve freedom now and for future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5248440" y="56815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o ordain and establish—this Constitution for the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3:35Z</dcterms:created>
  <dc:creator>Selena Ramsey</dc:creator>
  <dc:description/>
  <dc:language>en-US</dc:language>
  <cp:lastModifiedBy>poweruser</cp:lastModifiedBy>
  <dcterms:modified xsi:type="dcterms:W3CDTF">2011-09-15T12:55:47Z</dcterms:modified>
  <cp:revision>155</cp:revision>
  <dc:subject/>
  <dc:title>Slide 1</dc:title>
</cp:coreProperties>
</file>